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wmf" ContentType="image/x-wmf"/>
  <Override PartName="/ppt/media/image14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17.png" ContentType="image/png"/>
  <Override PartName="/ppt/media/image26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png" ContentType="image/png"/>
  <Override PartName="/ppt/media/image18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FCEE-6ED6-424E-9A6F-62362457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E663-86CC-4722-98B0-496A1726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53D0-34A1-4ABF-BF92-508A6601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6A82-6B0D-448D-AC24-AB0EA5D0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B5AA-8B7C-4B15-9317-87543BBB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6F54-6EB3-4AD0-B291-0228DE83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24C9-F124-4609-AD58-95465A89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553B-1AF3-41ED-8C4D-53845261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8AC1-41AB-48AD-8F79-E7DDFAF2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161B-E776-479F-A734-32E5600A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75A8-16FB-4955-9EB5-B8258207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8DB7-DB89-4B38-969C-2C326C5C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6952-678F-4D92-B38A-BCF6377A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6E58-8115-4408-A31A-A681BE70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CF7E-34B1-489F-8CBB-78B40E07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736C-9EEA-44E2-94EE-3410A21C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8CF5-636D-484D-BB99-AB41AE1A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0F59F-0E0B-4B2D-8685-3867376C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A08A8-733A-44E9-8FD0-6117D8FB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C4ACF-98D9-4A16-BE8F-9FA46FE0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00301-E9ED-46E7-B265-D02DE3C9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30577-9217-4B2E-B116-43DACB5F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E4B7-75F4-4CBB-85D0-6C373F3E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AA4F9-C4CF-4EF9-AF9A-39DDE3D5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21E55-B080-4C72-8475-56C9E795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BBD25-6C49-4935-8F12-D191C31B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F0974-DF3C-4DF0-8601-9B54011D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EA77D-DDB9-4CFB-AF4C-1279A76B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80A2A-6C5F-4409-94AD-6A4A5D1B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2EF42-6492-42CC-823F-6075260A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F1036-8537-49C0-B16A-6E7329A7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C00BC-931D-4A0D-AF1B-9453CCB8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ECDFB-F210-466D-B2EC-41E98E83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67EA-822B-4189-9159-B8C8452D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0DAF4-08E3-4C38-B2B4-88F0E066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98EF6-F245-4077-A12B-0A399E55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65059-66E7-4BC4-AB60-08B5B8B7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A0F0A-8E73-44C5-90FB-FED994E9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A7097-7783-46B7-ACEB-11872010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8424F-D260-44F7-9235-EA7EFE2D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BA762-D01B-4B48-9077-2C38B8A8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53692-65D2-4F50-AE64-96F87A3D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303BF-EA50-45B0-997A-033A3F03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D7300-338B-4038-A2D3-03217613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30CF-BF35-442F-BD13-B28E1D02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DE404-D5AA-4D33-B68F-C20F1856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FE1B9-D943-4A32-B372-757B44E8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1580F-F15E-4D5C-9C64-BE220408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39D2B-65FE-44A6-955C-BBAF00A5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FACC5-1816-4BD8-94EF-7E7269DB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79017-296D-4C8E-804E-C92D81DA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0C268-C023-41AF-A8DE-9C467F4A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12AE6-0DE6-437D-B791-8C813951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0E500-EFA5-4004-A819-7431C08E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43FE0-CDD9-4D7C-9A34-E8B9A6AD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E02A-FEFE-46AF-8BBE-A8779FF0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A479D-4A82-4432-A80B-E2E5A731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6B8B3-F7B9-4DD5-87DF-3790470C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CACE2-DD10-4059-AF8B-4960BA2C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2283F-2F6A-4F0F-BA5E-143E8688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6FFCF-D14D-450D-9C9E-9CB84BFC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3F1C6-6915-4263-BF27-CC8E8D7C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52229-1576-4C81-A24C-A4516750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F4F62-3AD7-452D-ACDE-168ECD5E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F9C49-19A6-477A-BFB4-2F71A36F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9FAEA-CD67-4F36-B113-FE5F85B6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0776-AAFB-4B41-AFFD-E2BFDBDF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162DD-BACB-4457-A75E-5EBF41F0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A069C-F448-462D-A589-FE8B5653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30BCF-1668-49FD-9F18-E4F4C6CF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DF9C9-DE1B-4B21-9227-EEA45A31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E1884-18CE-433B-A482-8EF9496A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7ACFA-33AA-4BDF-AD92-E33B1908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C334B-17B1-4B80-AD36-1004E493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E5561-7EE3-4E50-AC12-5244465F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EE2F8-70BE-4A76-AE3D-9E1AE01B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22DF0-0347-4B19-A097-75DEACD4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A30F-1120-4DBB-AFB6-5F015EEA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E8C59-8477-46D8-8174-C51C11D6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D1E08-0471-40B2-8D38-3ED31C32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691CC-DC4C-4231-89D1-FC190B2A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663DF-E306-4C27-BB7F-5D0A78E5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39415-745C-40B5-802E-DE25F60F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6FE7-49AE-4F12-AFA2-75810B43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EB82-292D-460C-9D6A-7A442BBF2F5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7ED3-4E9C-4CC5-8CA3-867EB5B3D3E4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5B02-E61E-47A2-8DA0-85F0A24CFF6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A5FF-FF1D-4DEF-8803-2A92D16E0D0E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0628-8071-42E3-9B10-2032D5BB703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C698-9859-4771-B83B-12EAAC67D9BF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EE9A-04BD-4172-9CCD-AF6C10A3C5F0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4" descr=""/>
          <p:cNvPicPr/>
          <p:nvPr/>
        </p:nvPicPr>
        <p:blipFill>
          <a:blip r:embed="rId1"/>
          <a:stretch/>
        </p:blipFill>
        <p:spPr>
          <a:xfrm>
            <a:off x="390600" y="298440"/>
            <a:ext cx="8356680" cy="2871720"/>
          </a:xfrm>
          <a:prstGeom prst="rect">
            <a:avLst/>
          </a:prstGeom>
          <a:ln w="0">
            <a:noFill/>
          </a:ln>
        </p:spPr>
      </p:pic>
      <p:pic>
        <p:nvPicPr>
          <p:cNvPr id="302" name="Rectangle 5" descr=""/>
          <p:cNvPicPr/>
          <p:nvPr/>
        </p:nvPicPr>
        <p:blipFill>
          <a:blip r:embed="rId2"/>
          <a:stretch/>
        </p:blipFill>
        <p:spPr>
          <a:xfrm>
            <a:off x="639720" y="4608360"/>
            <a:ext cx="8028000" cy="13226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"/>
          <p:cNvPicPr/>
          <p:nvPr/>
        </p:nvPicPr>
        <p:blipFill>
          <a:blip r:embed="rId3"/>
          <a:srcRect l="1170" t="20832" r="47878" b="70837"/>
          <a:stretch/>
        </p:blipFill>
        <p:spPr>
          <a:xfrm>
            <a:off x="1371600" y="3581280"/>
            <a:ext cx="66294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7"/>
          <p:cNvSpPr/>
          <p:nvPr/>
        </p:nvSpPr>
        <p:spPr>
          <a:xfrm>
            <a:off x="0" y="1981080"/>
            <a:ext cx="9144000" cy="129564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37" name="TextBox 3"/>
          <p:cNvSpPr/>
          <p:nvPr/>
        </p:nvSpPr>
        <p:spPr>
          <a:xfrm>
            <a:off x="1371600" y="12952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verage Time of Or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2"/>
              <p:cNvSpPr txBox="1"/>
              <p:nvPr/>
            </p:nvSpPr>
            <p:spPr>
              <a:xfrm>
                <a:off x="1143000" y="1905120"/>
                <a:ext cx="67518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χ</m:t>
                        </m:r>
                      </m:e>
                    </m:bar>
                    <m:r>
                      <m:t xml:space="preserve">±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⋅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AM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rPr>
                        <m:lit/>
                        <m:nor/>
                      </m:rPr>
                      <m:t xml:space="preserve">A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TextBox 5"/>
          <p:cNvSpPr/>
          <p:nvPr/>
        </p:nvSpPr>
        <p:spPr>
          <a:xfrm>
            <a:off x="990720" y="3809880"/>
            <a:ext cx="754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e are 95% confident that the true average time of orders made at Village Bagel are between 9:33 AM and 10:35 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 reoccurring samples of the same size (n=61), the true average time of orders will catch the interval 95% of the tim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378000" y="262080"/>
            <a:ext cx="6108480" cy="14079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304560" y="2666880"/>
            <a:ext cx="3886200" cy="34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nditions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tegorical Dat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R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ll expected cell counts are ≥ 5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TextBox 3"/>
          <p:cNvSpPr/>
          <p:nvPr/>
        </p:nvSpPr>
        <p:spPr>
          <a:xfrm>
            <a:off x="1371600" y="1295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ndependence for toasted/not toasted and bagel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Content Placeholder 2"/>
          <p:cNvSpPr/>
          <p:nvPr/>
        </p:nvSpPr>
        <p:spPr>
          <a:xfrm>
            <a:off x="5105520" y="2666880"/>
            <a:ext cx="3733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Check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Yes, bagel type and toasted/not toasted are categor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Assu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All expected cell counts are NOT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  <a:ea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94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Although this check doesn’t meet the requirement, we will still continue with the te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Box 5"/>
          <p:cNvSpPr/>
          <p:nvPr/>
        </p:nvSpPr>
        <p:spPr>
          <a:xfrm>
            <a:off x="380880" y="5105520"/>
            <a:ext cx="464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ll condition me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hi-Square distrib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hi-Square test for indepen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3" descr="C:\Documents and Settings\Calderaio.K000\Local Settings\Temporary Internet Files\Content.IE5\A3O920U2\MC900434665[1].wmf"/>
          <p:cNvPicPr/>
          <p:nvPr/>
        </p:nvPicPr>
        <p:blipFill>
          <a:blip r:embed="rId2"/>
          <a:stretch/>
        </p:blipFill>
        <p:spPr>
          <a:xfrm>
            <a:off x="2819520" y="5105520"/>
            <a:ext cx="380880" cy="3506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C:\Documents and Settings\Calderaio.K000\Local Settings\Temporary Internet Files\Content.IE5\A3O920U2\MC900434665[1].wmf"/>
          <p:cNvPicPr/>
          <p:nvPr/>
        </p:nvPicPr>
        <p:blipFill>
          <a:blip r:embed="rId3"/>
          <a:stretch/>
        </p:blipFill>
        <p:spPr>
          <a:xfrm>
            <a:off x="3581280" y="5334120"/>
            <a:ext cx="381240" cy="3506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C:\Documents and Settings\Calderaio.K000\Local Settings\Temporary Internet Files\Content.IE5\A3O920U2\MC900434665[1].wmf"/>
          <p:cNvPicPr/>
          <p:nvPr/>
        </p:nvPicPr>
        <p:blipFill>
          <a:blip r:embed="rId4"/>
          <a:stretch/>
        </p:blipFill>
        <p:spPr>
          <a:xfrm>
            <a:off x="4876920" y="5715000"/>
            <a:ext cx="380880" cy="351000"/>
          </a:xfrm>
          <a:prstGeom prst="rect">
            <a:avLst/>
          </a:prstGeom>
          <a:ln w="0">
            <a:noFill/>
          </a:ln>
        </p:spPr>
      </p:pic>
      <p:sp>
        <p:nvSpPr>
          <p:cNvPr id="348" name="TextBox 10"/>
          <p:cNvSpPr/>
          <p:nvPr/>
        </p:nvSpPr>
        <p:spPr>
          <a:xfrm>
            <a:off x="228600" y="17524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Ho: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re is no association between toasted/not toasted and bagel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Box 11"/>
          <p:cNvSpPr/>
          <p:nvPr/>
        </p:nvSpPr>
        <p:spPr>
          <a:xfrm>
            <a:off x="4648320" y="175248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Ha: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re is an association between toasted/not toasted and bagel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ounded Rectangle 11"/>
          <p:cNvSpPr/>
          <p:nvPr/>
        </p:nvSpPr>
        <p:spPr>
          <a:xfrm>
            <a:off x="0" y="3352680"/>
            <a:ext cx="8839080" cy="106704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ounded Rectangle 9"/>
          <p:cNvSpPr/>
          <p:nvPr/>
        </p:nvSpPr>
        <p:spPr>
          <a:xfrm>
            <a:off x="0" y="1828800"/>
            <a:ext cx="8839080" cy="129528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3" name="TextBox 3"/>
          <p:cNvSpPr/>
          <p:nvPr/>
        </p:nvSpPr>
        <p:spPr>
          <a:xfrm>
            <a:off x="1371600" y="12952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ndependence for toasted/not toasted and bagel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2"/>
              <p:cNvSpPr txBox="1"/>
              <p:nvPr/>
            </p:nvSpPr>
            <p:spPr>
              <a:xfrm>
                <a:off x="152280" y="1905120"/>
                <a:ext cx="33829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3505320" y="1905120"/>
                <a:ext cx="1357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4876920" y="1905120"/>
                <a:ext cx="336528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6"/>
              <p:cNvSpPr txBox="1"/>
              <p:nvPr/>
            </p:nvSpPr>
            <p:spPr>
              <a:xfrm>
                <a:off x="762120" y="3505320"/>
                <a:ext cx="561636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TextBox 15"/>
          <p:cNvSpPr/>
          <p:nvPr/>
        </p:nvSpPr>
        <p:spPr>
          <a:xfrm>
            <a:off x="304920" y="4876920"/>
            <a:ext cx="822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e fail to reject the Ho because the p-value of .19 is greater than the alpha of 0.0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e have sufficient evidence that there is no association between toasted/not toasted and bagel type customers may prefer to have a certain bagel flavor toas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60" name="TextBox 3"/>
          <p:cNvSpPr/>
          <p:nvPr/>
        </p:nvSpPr>
        <p:spPr>
          <a:xfrm>
            <a:off x="1371600" y="1295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ndependence for toasted/not toasted and bagel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0" y="1828800"/>
            <a:ext cx="5181480" cy="4343400"/>
          </a:xfrm>
          <a:prstGeom prst="rect">
            <a:avLst/>
          </a:prstGeom>
          <a:ln w="0">
            <a:noFill/>
          </a:ln>
        </p:spPr>
      </p:pic>
      <p:sp>
        <p:nvSpPr>
          <p:cNvPr id="362" name="Content Placeholder 2"/>
          <p:cNvSpPr/>
          <p:nvPr/>
        </p:nvSpPr>
        <p:spPr>
          <a:xfrm>
            <a:off x="5257800" y="2286000"/>
            <a:ext cx="3886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most popular toasted item the everything bag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least popular toasted item was cinnamon raisin, whole grain, and wr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most popular not toasted item was b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least popular not toasted item cranberry orange, egg, and garl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3"/>
          <p:cNvSpPr/>
          <p:nvPr/>
        </p:nvSpPr>
        <p:spPr>
          <a:xfrm>
            <a:off x="1371600" y="12952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ndependence for modifications and g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5"/>
          <p:cNvSpPr/>
          <p:nvPr/>
        </p:nvSpPr>
        <p:spPr>
          <a:xfrm>
            <a:off x="228600" y="17524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Ho: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re is no association between modifications and g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6"/>
          <p:cNvSpPr/>
          <p:nvPr/>
        </p:nvSpPr>
        <p:spPr>
          <a:xfrm>
            <a:off x="4648320" y="17524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Ha: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re is an association between modifications and g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Content Placeholder 2"/>
          <p:cNvSpPr/>
          <p:nvPr/>
        </p:nvSpPr>
        <p:spPr>
          <a:xfrm>
            <a:off x="304920" y="2666880"/>
            <a:ext cx="388620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ndi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Categorical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S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All expected cell counts are ≥ 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Content Placeholder 2"/>
          <p:cNvSpPr/>
          <p:nvPr/>
        </p:nvSpPr>
        <p:spPr>
          <a:xfrm>
            <a:off x="5105520" y="2666880"/>
            <a:ext cx="37335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he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Yes, modifications and gender are categor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Assu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All expected cell counts are ≥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9"/>
          <p:cNvSpPr/>
          <p:nvPr/>
        </p:nvSpPr>
        <p:spPr>
          <a:xfrm>
            <a:off x="380880" y="5105520"/>
            <a:ext cx="464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ll condition me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hi-Square distrib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hi-Square test for indepen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C:\Documents and Settings\Calderaio.K000\Local Settings\Temporary Internet Files\Content.IE5\A3O920U2\MC900434665[1].wmf"/>
          <p:cNvPicPr/>
          <p:nvPr/>
        </p:nvPicPr>
        <p:blipFill>
          <a:blip r:embed="rId2"/>
          <a:stretch/>
        </p:blipFill>
        <p:spPr>
          <a:xfrm>
            <a:off x="2743200" y="5029200"/>
            <a:ext cx="380880" cy="351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C:\Documents and Settings\Calderaio.K000\Local Settings\Temporary Internet Files\Content.IE5\A3O920U2\MC900434665[1].wmf"/>
          <p:cNvPicPr/>
          <p:nvPr/>
        </p:nvPicPr>
        <p:blipFill>
          <a:blip r:embed="rId3"/>
          <a:stretch/>
        </p:blipFill>
        <p:spPr>
          <a:xfrm>
            <a:off x="3581280" y="5334120"/>
            <a:ext cx="381240" cy="350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C:\Documents and Settings\Calderaio.K000\Local Settings\Temporary Internet Files\Content.IE5\A3O920U2\MC900434665[1].wmf"/>
          <p:cNvPicPr/>
          <p:nvPr/>
        </p:nvPicPr>
        <p:blipFill>
          <a:blip r:embed="rId4"/>
          <a:stretch/>
        </p:blipFill>
        <p:spPr>
          <a:xfrm>
            <a:off x="4876920" y="5638680"/>
            <a:ext cx="38088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4" name="TextBox 3"/>
          <p:cNvSpPr/>
          <p:nvPr/>
        </p:nvSpPr>
        <p:spPr>
          <a:xfrm>
            <a:off x="1371600" y="12952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ndependence for modifications and g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ounded Rectangle 5"/>
          <p:cNvSpPr/>
          <p:nvPr/>
        </p:nvSpPr>
        <p:spPr>
          <a:xfrm>
            <a:off x="0" y="1828800"/>
            <a:ext cx="9144000" cy="137160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2"/>
              <p:cNvSpPr txBox="1"/>
              <p:nvPr/>
            </p:nvSpPr>
            <p:spPr>
              <a:xfrm>
                <a:off x="0" y="1905120"/>
                <a:ext cx="33829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3352680" y="1905120"/>
                <a:ext cx="19400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4"/>
              <p:cNvSpPr txBox="1"/>
              <p:nvPr/>
            </p:nvSpPr>
            <p:spPr>
              <a:xfrm>
                <a:off x="5207040" y="1905120"/>
                <a:ext cx="393696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Rounded Rectangle 9"/>
          <p:cNvSpPr/>
          <p:nvPr/>
        </p:nvSpPr>
        <p:spPr>
          <a:xfrm>
            <a:off x="0" y="3276720"/>
            <a:ext cx="8839080" cy="106668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5"/>
              <p:cNvSpPr txBox="1"/>
              <p:nvPr/>
            </p:nvSpPr>
            <p:spPr>
              <a:xfrm>
                <a:off x="914400" y="3429000"/>
                <a:ext cx="53341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36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TextBox 11"/>
          <p:cNvSpPr/>
          <p:nvPr/>
        </p:nvSpPr>
        <p:spPr>
          <a:xfrm>
            <a:off x="0" y="464832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e fail to reject Ho because the p-value of 0.53 is greater than the alpha of 0.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e have sufficient evidence that there is no association between gender and modifi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, gender may not determine if customers modify their or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-360" y="1905120"/>
            <a:ext cx="3962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most popular was to not have any modifications for both males and femal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re were more females that made modification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TextBox 3"/>
          <p:cNvSpPr/>
          <p:nvPr/>
        </p:nvSpPr>
        <p:spPr>
          <a:xfrm>
            <a:off x="1371600" y="12952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ndependence for modifications and g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2"/>
          <a:stretch/>
        </p:blipFill>
        <p:spPr>
          <a:xfrm>
            <a:off x="4419720" y="1752480"/>
            <a:ext cx="4495680" cy="39625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Sandwiches"/>
          <p:cNvPicPr/>
          <p:nvPr/>
        </p:nvPicPr>
        <p:blipFill>
          <a:blip r:embed="rId3"/>
          <a:stretch/>
        </p:blipFill>
        <p:spPr>
          <a:xfrm>
            <a:off x="1143000" y="3886200"/>
            <a:ext cx="23814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88" name="TextBox 3"/>
          <p:cNvSpPr/>
          <p:nvPr/>
        </p:nvSpPr>
        <p:spPr>
          <a:xfrm>
            <a:off x="1371600" y="12952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ndependence for here/to go and lunch/breakf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4"/>
          <p:cNvSpPr/>
          <p:nvPr/>
        </p:nvSpPr>
        <p:spPr>
          <a:xfrm>
            <a:off x="228600" y="17524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Ho: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re is no association between here/to go and lunch/breakf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5"/>
          <p:cNvSpPr/>
          <p:nvPr/>
        </p:nvSpPr>
        <p:spPr>
          <a:xfrm>
            <a:off x="4648320" y="17524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Ha: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re is an association between here/to go and lunch/breakf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Content Placeholder 2"/>
          <p:cNvSpPr/>
          <p:nvPr/>
        </p:nvSpPr>
        <p:spPr>
          <a:xfrm>
            <a:off x="304920" y="2666880"/>
            <a:ext cx="388620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ndi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Categorical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S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All expected cell counts are ≥ 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Content Placeholder 2"/>
          <p:cNvSpPr/>
          <p:nvPr/>
        </p:nvSpPr>
        <p:spPr>
          <a:xfrm>
            <a:off x="5029200" y="2590920"/>
            <a:ext cx="37339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he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Yes, here/to go and lunch/breakfast  are categor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Assu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All expected cell counts are ≥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8"/>
          <p:cNvSpPr/>
          <p:nvPr/>
        </p:nvSpPr>
        <p:spPr>
          <a:xfrm>
            <a:off x="380880" y="5105520"/>
            <a:ext cx="464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ll condition me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hi-Square distrib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hi-square test for indepen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3" descr="C:\Documents and Settings\Calderaio.K000\Local Settings\Temporary Internet Files\Content.IE5\A3O920U2\MC900434665[1].wmf"/>
          <p:cNvPicPr/>
          <p:nvPr/>
        </p:nvPicPr>
        <p:blipFill>
          <a:blip r:embed="rId2"/>
          <a:stretch/>
        </p:blipFill>
        <p:spPr>
          <a:xfrm>
            <a:off x="2743200" y="5029200"/>
            <a:ext cx="380880" cy="351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C:\Documents and Settings\Calderaio.K000\Local Settings\Temporary Internet Files\Content.IE5\A3O920U2\MC900434665[1].wmf"/>
          <p:cNvPicPr/>
          <p:nvPr/>
        </p:nvPicPr>
        <p:blipFill>
          <a:blip r:embed="rId3"/>
          <a:stretch/>
        </p:blipFill>
        <p:spPr>
          <a:xfrm>
            <a:off x="3581280" y="5334120"/>
            <a:ext cx="381240" cy="3506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C:\Documents and Settings\Calderaio.K000\Local Settings\Temporary Internet Files\Content.IE5\A3O920U2\MC900434665[1].wmf"/>
          <p:cNvPicPr/>
          <p:nvPr/>
        </p:nvPicPr>
        <p:blipFill>
          <a:blip r:embed="rId4"/>
          <a:stretch/>
        </p:blipFill>
        <p:spPr>
          <a:xfrm>
            <a:off x="4952880" y="5715000"/>
            <a:ext cx="38124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98" name="TextBox 3"/>
          <p:cNvSpPr/>
          <p:nvPr/>
        </p:nvSpPr>
        <p:spPr>
          <a:xfrm>
            <a:off x="1371600" y="12952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ndependence for here/to go and lunch/breakf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ounded Rectangle 5"/>
          <p:cNvSpPr/>
          <p:nvPr/>
        </p:nvSpPr>
        <p:spPr>
          <a:xfrm>
            <a:off x="0" y="1828800"/>
            <a:ext cx="9144000" cy="137160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2"/>
              <p:cNvSpPr txBox="1"/>
              <p:nvPr/>
            </p:nvSpPr>
            <p:spPr>
              <a:xfrm>
                <a:off x="0" y="1905120"/>
                <a:ext cx="33829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3"/>
              <p:cNvSpPr txBox="1"/>
              <p:nvPr/>
            </p:nvSpPr>
            <p:spPr>
              <a:xfrm>
                <a:off x="3368520" y="1936800"/>
                <a:ext cx="19069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4"/>
              <p:cNvSpPr txBox="1"/>
              <p:nvPr/>
            </p:nvSpPr>
            <p:spPr>
              <a:xfrm>
                <a:off x="5413320" y="1936800"/>
                <a:ext cx="35244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1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Rounded Rectangle 7"/>
          <p:cNvSpPr/>
          <p:nvPr/>
        </p:nvSpPr>
        <p:spPr>
          <a:xfrm>
            <a:off x="0" y="3276720"/>
            <a:ext cx="8839080" cy="106668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5"/>
              <p:cNvSpPr txBox="1"/>
              <p:nvPr/>
            </p:nvSpPr>
            <p:spPr>
              <a:xfrm>
                <a:off x="934920" y="3429000"/>
                <a:ext cx="52945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19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TextBox 11"/>
          <p:cNvSpPr/>
          <p:nvPr/>
        </p:nvSpPr>
        <p:spPr>
          <a:xfrm>
            <a:off x="304920" y="48769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e fail to reject Ho because the p-value of 0.4 is greater than the alpha of 0.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e have sufficient evidence that there is no association between here/to go and lunch/breakfa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5409720" y="1882800"/>
            <a:ext cx="3581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r breakfast the majority of the customers took their order to g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r lunch the majority of the customers also took their order to g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most common order was choosing to eat breakfast to g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least common order was choosing to eat lunch at the restaura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TextBox 3"/>
          <p:cNvSpPr/>
          <p:nvPr/>
        </p:nvSpPr>
        <p:spPr>
          <a:xfrm>
            <a:off x="1371600" y="12952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ndependence for here/to go and lunch/breakf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4952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6840" y="1882800"/>
            <a:ext cx="4800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ocated in Warrington, P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pen for lunch and breakfas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lls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agels, Sandwiches, Breads, Salads/Soups, and Beverag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wners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isa O’Boyle and Kathy Braddish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2"/>
          <a:srcRect l="2927" t="39587" r="77162" b="17707"/>
          <a:stretch/>
        </p:blipFill>
        <p:spPr>
          <a:xfrm>
            <a:off x="5715000" y="1600200"/>
            <a:ext cx="320040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411" name="TextBox 3"/>
          <p:cNvSpPr/>
          <p:nvPr/>
        </p:nvSpPr>
        <p:spPr>
          <a:xfrm>
            <a:off x="1371600" y="12952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ime VS. G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Content Placeholder 2"/>
          <p:cNvSpPr/>
          <p:nvPr/>
        </p:nvSpPr>
        <p:spPr>
          <a:xfrm>
            <a:off x="304920" y="2209680"/>
            <a:ext cx="388620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ndi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2 independent S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2 normal population or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 and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 ≥ 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po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 ≥ 10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n1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 and po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 ≥ 10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n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Content Placeholder 2"/>
          <p:cNvSpPr/>
          <p:nvPr/>
        </p:nvSpPr>
        <p:spPr>
          <a:xfrm>
            <a:off x="4952880" y="2133720"/>
            <a:ext cx="3733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he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Assumed independent and rand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 and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 ≥ 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794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 = 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794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= 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More than 300 females and 310 m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Box 8"/>
          <p:cNvSpPr/>
          <p:nvPr/>
        </p:nvSpPr>
        <p:spPr>
          <a:xfrm>
            <a:off x="380880" y="5486400"/>
            <a:ext cx="464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ll condition me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tudent’s T distrib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2 sample T-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762120" y="1752480"/>
            <a:ext cx="175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Ho: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µ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= µ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2362320" y="1752480"/>
            <a:ext cx="175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Ha: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µ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≠ µ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Picture 3" descr="C:\Documents and Settings\Calderaio.K000\Local Settings\Temporary Internet Files\Content.IE5\A3O920U2\MC900434665[1].wmf"/>
          <p:cNvPicPr/>
          <p:nvPr/>
        </p:nvPicPr>
        <p:blipFill>
          <a:blip r:embed="rId2"/>
          <a:stretch/>
        </p:blipFill>
        <p:spPr>
          <a:xfrm>
            <a:off x="2743200" y="5410080"/>
            <a:ext cx="380880" cy="351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C:\Documents and Settings\Calderaio.K000\Local Settings\Temporary Internet Files\Content.IE5\A3O920U2\MC900434665[1].wmf"/>
          <p:cNvPicPr/>
          <p:nvPr/>
        </p:nvPicPr>
        <p:blipFill>
          <a:blip r:embed="rId3"/>
          <a:stretch/>
        </p:blipFill>
        <p:spPr>
          <a:xfrm>
            <a:off x="3276720" y="5715000"/>
            <a:ext cx="380880" cy="351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C:\Documents and Settings\Calderaio.K000\Local Settings\Temporary Internet Files\Content.IE5\A3O920U2\MC900434665[1].wmf"/>
          <p:cNvPicPr/>
          <p:nvPr/>
        </p:nvPicPr>
        <p:blipFill>
          <a:blip r:embed="rId4"/>
          <a:stretch/>
        </p:blipFill>
        <p:spPr>
          <a:xfrm>
            <a:off x="2438280" y="6172200"/>
            <a:ext cx="38124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ounded Rectangle 8"/>
          <p:cNvSpPr/>
          <p:nvPr/>
        </p:nvSpPr>
        <p:spPr>
          <a:xfrm>
            <a:off x="0" y="3581280"/>
            <a:ext cx="9144000" cy="106704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422" name="TextBox 3"/>
          <p:cNvSpPr/>
          <p:nvPr/>
        </p:nvSpPr>
        <p:spPr>
          <a:xfrm>
            <a:off x="1371600" y="12952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ime VS. G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ounded Rectangle 4"/>
          <p:cNvSpPr/>
          <p:nvPr/>
        </p:nvSpPr>
        <p:spPr>
          <a:xfrm>
            <a:off x="0" y="1828800"/>
            <a:ext cx="9144000" cy="160020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1" descr=""/>
          <p:cNvPicPr/>
          <p:nvPr/>
        </p:nvPicPr>
        <p:blipFill>
          <a:blip r:embed="rId2"/>
          <a:stretch/>
        </p:blipFill>
        <p:spPr>
          <a:xfrm>
            <a:off x="1981080" y="1905120"/>
            <a:ext cx="2425680" cy="15494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6"/>
          <p:cNvSpPr/>
          <p:nvPr/>
        </p:nvSpPr>
        <p:spPr>
          <a:xfrm>
            <a:off x="4572000" y="2133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.56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5"/>
              <p:cNvSpPr txBox="1"/>
              <p:nvPr/>
            </p:nvSpPr>
            <p:spPr>
              <a:xfrm>
                <a:off x="533520" y="3657600"/>
                <a:ext cx="687060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TextBox 11"/>
          <p:cNvSpPr/>
          <p:nvPr/>
        </p:nvSpPr>
        <p:spPr>
          <a:xfrm>
            <a:off x="304920" y="48769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e reject Ho because the p-value of 0.013 is less than the alpha of 0.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e have sufficient evidence that the average time of females and males orders are not eq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80880" y="1752480"/>
            <a:ext cx="3353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37476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emale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re are 5 outlier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re is a median at11:00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inimum= 8:30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aximum= 11:30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ales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re are no outlier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re is a median at 9:00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inimum= 7:00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aximum= 15:00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30" name="Picture 3" descr=""/>
          <p:cNvPicPr/>
          <p:nvPr/>
        </p:nvPicPr>
        <p:blipFill>
          <a:blip r:embed="rId2"/>
          <a:stretch/>
        </p:blipFill>
        <p:spPr>
          <a:xfrm>
            <a:off x="4191120" y="1752480"/>
            <a:ext cx="4572000" cy="4181760"/>
          </a:xfrm>
          <a:prstGeom prst="rect">
            <a:avLst/>
          </a:prstGeom>
          <a:ln w="0">
            <a:noFill/>
          </a:ln>
        </p:spPr>
      </p:pic>
      <p:sp>
        <p:nvSpPr>
          <p:cNvPr id="431" name="TextBox 4"/>
          <p:cNvSpPr/>
          <p:nvPr/>
        </p:nvSpPr>
        <p:spPr>
          <a:xfrm>
            <a:off x="1371600" y="12952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ime VS. G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955360" cy="140796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457200" y="1882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hi-Square Test for independence for toasted/not toasted and bagel typ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re is no association between toasted/not toasted and bagel typ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hi-Square Test for independence for modifications and gende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re is no association between gender and modificatio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Gender may not determine if customers modify their orde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hi-Square Test for independence for here/to go and lunch/breakfas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re is no association between here/to go and lunch/breakfas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2 Sample T-Test for time VS. gende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 average time of females and males orders are not equa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ickets may get mixed up and be unsure of which gender ordered wh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eople may not care what type of bagel they get their sandwich 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ay lose or have tickets thrown out by acciden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re may not be a large enough sample size to come to accurate soluti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sing only one Village Bagel Company restauran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stricted to only people in the are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ata could have been more accurate with a larger sample siz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ata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ollecting data was easy because Chelsea works at Village Bag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mployees were willing to help us collect ticket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oject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ook a lot of time to put everything togethe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un and enjoyable projec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anted to find out if food orders at Village Bagel had any association with…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Gende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ype of bag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Here/to go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Breakfast/lunch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ime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odification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oasted/not toasted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Picture 2" descr="http://www.villagebagelco.com/images/direct36.jpg"/>
          <p:cNvPicPr/>
          <p:nvPr/>
        </p:nvPicPr>
        <p:blipFill>
          <a:blip r:embed="rId2"/>
          <a:stretch/>
        </p:blipFill>
        <p:spPr>
          <a:xfrm>
            <a:off x="4952880" y="3006720"/>
            <a:ext cx="36576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llected food order tickets from Village Bagel over the course of three day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parated the tickets by gender into two different bag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llected data from every fifth ticket that we pulled out of each bag until we had 30 tickets for females and 31 tickets for mal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est of significance and interval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1-Sample T-Interval on average time of order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hi-Square Test for independence for toasted/not toasted and bagel typ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hi-Square Test for independence for modifications and gend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hi-Square Test for independence for here/to go and lunch/breakfas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2 Sample T-Test for time VS. gend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-360" y="4952520"/>
            <a:ext cx="47242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s graph shows that our data was unimodal at 11:30 with a symmetric shape and slight right skew. It has a gap at 13:00 and a spread of (6:30,14:30). Lastly, the center of this graph lies around 9:30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Content Placeholder 2"/>
          <p:cNvSpPr/>
          <p:nvPr/>
        </p:nvSpPr>
        <p:spPr>
          <a:xfrm>
            <a:off x="4800600" y="1600200"/>
            <a:ext cx="4343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ctr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ver the course of three days the busiest time of day was at 11: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re were no customers at 13: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re were the least amount of customers at 10:00 and 12: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amount of customers was the most consistent from 13:30 to 14: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Box 3"/>
          <p:cNvSpPr/>
          <p:nvPr/>
        </p:nvSpPr>
        <p:spPr>
          <a:xfrm>
            <a:off x="1371600" y="12952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Histogram for Time of Or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18" name="TextBox 3"/>
          <p:cNvSpPr/>
          <p:nvPr/>
        </p:nvSpPr>
        <p:spPr>
          <a:xfrm>
            <a:off x="1371600" y="12952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ie Chart for Types of Bag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Chart 4" descr=""/>
          <p:cNvPicPr/>
          <p:nvPr/>
        </p:nvPicPr>
        <p:blipFill>
          <a:blip r:embed="rId2"/>
          <a:stretch/>
        </p:blipFill>
        <p:spPr>
          <a:xfrm>
            <a:off x="298440" y="1670040"/>
            <a:ext cx="831528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21" name="Content Placeholder 2"/>
          <p:cNvSpPr/>
          <p:nvPr/>
        </p:nvSpPr>
        <p:spPr>
          <a:xfrm>
            <a:off x="5715000" y="2514600"/>
            <a:ext cx="3429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most popular bagel was everything with 10 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least popular bagels were egg and cinnamon raisin with one order e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re were 16 bagel flavors ordered out of the 22 types that are off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Box 3"/>
          <p:cNvSpPr/>
          <p:nvPr/>
        </p:nvSpPr>
        <p:spPr>
          <a:xfrm>
            <a:off x="1371600" y="12952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Bar Chart for Types of Bag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2"/>
          <a:stretch/>
        </p:blipFill>
        <p:spPr>
          <a:xfrm>
            <a:off x="0" y="2286000"/>
            <a:ext cx="5638680" cy="3657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http://www.villagebagelco.com/images/bagels35.jpg"/>
          <p:cNvPicPr/>
          <p:nvPr/>
        </p:nvPicPr>
        <p:blipFill>
          <a:blip r:embed="rId3"/>
          <a:stretch/>
        </p:blipFill>
        <p:spPr>
          <a:xfrm>
            <a:off x="7086600" y="228600"/>
            <a:ext cx="1905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rom our data the majority of customers would come into Village Bagel at 11:30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ctr">
              <a:spcBef>
                <a:spcPts val="7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is could vary on weekends VS. weekday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ost customers would prefer their order to be on an everything bagel from the popularity shown in the pie and bar char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6840" y="1882800"/>
            <a:ext cx="3886200" cy="30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ndition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R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Normal population or n ≥ 30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opulation ≥ 10n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1371600" y="12952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verage Time of Or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Content Placeholder 2"/>
          <p:cNvSpPr/>
          <p:nvPr/>
        </p:nvSpPr>
        <p:spPr>
          <a:xfrm>
            <a:off x="4572000" y="1981080"/>
            <a:ext cx="3886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eck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Arial"/>
              </a:rPr>
              <a:t>Assum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Arial"/>
              </a:rPr>
              <a:t>n=6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Arial"/>
              </a:rPr>
              <a:t>There are more than 610 time ord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3" descr="C:\Documents and Settings\Calderaio.K000\Local Settings\Temporary Internet Files\Content.IE5\A3O920U2\MC900434665[1].wmf"/>
          <p:cNvPicPr/>
          <p:nvPr/>
        </p:nvPicPr>
        <p:blipFill>
          <a:blip r:embed="rId2"/>
          <a:stretch/>
        </p:blipFill>
        <p:spPr>
          <a:xfrm>
            <a:off x="3352680" y="5029200"/>
            <a:ext cx="381240" cy="351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C:\Documents and Settings\Calderaio.K000\Local Settings\Temporary Internet Files\Content.IE5\A3O920U2\MC900434665[1].wmf"/>
          <p:cNvPicPr/>
          <p:nvPr/>
        </p:nvPicPr>
        <p:blipFill>
          <a:blip r:embed="rId3"/>
          <a:stretch/>
        </p:blipFill>
        <p:spPr>
          <a:xfrm>
            <a:off x="3886200" y="5334120"/>
            <a:ext cx="380880" cy="3506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C:\Documents and Settings\Calderaio.K000\Local Settings\Temporary Internet Files\Content.IE5\A3O920U2\MC900434665[1].wmf"/>
          <p:cNvPicPr/>
          <p:nvPr/>
        </p:nvPicPr>
        <p:blipFill>
          <a:blip r:embed="rId4"/>
          <a:stretch/>
        </p:blipFill>
        <p:spPr>
          <a:xfrm>
            <a:off x="3581280" y="5791320"/>
            <a:ext cx="381240" cy="350640"/>
          </a:xfrm>
          <a:prstGeom prst="rect">
            <a:avLst/>
          </a:prstGeom>
          <a:ln w="0">
            <a:noFill/>
          </a:ln>
        </p:spPr>
      </p:pic>
      <p:sp>
        <p:nvSpPr>
          <p:cNvPr id="334" name="TextBox 5"/>
          <p:cNvSpPr/>
          <p:nvPr/>
        </p:nvSpPr>
        <p:spPr>
          <a:xfrm>
            <a:off x="990720" y="5105520"/>
            <a:ext cx="464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ll condition me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tudent’s T distrib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1-Sample T-Inter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7:19:46Z</dcterms:created>
  <dc:creator>coppola.a437</dc:creator>
  <dc:description/>
  <dc:language>en-US</dc:language>
  <cp:lastModifiedBy>Lauren Senske</cp:lastModifiedBy>
  <dcterms:modified xsi:type="dcterms:W3CDTF">2011-01-10T17:49:41Z</dcterms:modified>
  <cp:revision>45</cp:revision>
  <dc:subject/>
  <dc:title>Slide 1</dc:title>
</cp:coreProperties>
</file>